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.wmf" ContentType="image/x-wmf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6.wmf" ContentType="image/x-wmf"/>
  <Override PartName="/ppt/media/image11.wmf" ContentType="image/x-wm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D8CF-271B-4F01-BC83-1B171AFCA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EC7A-F056-45C0-BABE-7DD47289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826E-1624-4606-AFD8-07515121B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4D4B-BD96-48BE-8C68-6D45E5B71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F3E9-7468-45B8-AEDD-8EF33DAB9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307D-5EE1-4850-A065-DD6D90E3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3D21-BCBA-4F6D-8D12-7A725984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26A1-ABC9-4881-B572-7AC728B3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EF81-6B63-4496-AB84-512E10F1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AFCB-1D3A-4E13-81F6-3F2BB199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2A7D-6A12-4F2F-8E63-770C82D6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3067-EA6B-4889-AC03-ABBD53C1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7112-CC3B-4F53-867A-1F929736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6B40-8EC0-400A-A2B4-161E3616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B449-739D-47F3-8D79-8AE3E65C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A528-E034-4B9A-B13C-9EA7EF9D1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03CA-157C-4573-9955-38AE5C95F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310FD-3E97-4E09-85C3-E1EDE6EA5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E0633-2418-4657-AA47-F2AA6AD9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868AF-EF31-4D86-8671-F94A238A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B143C-629D-4B7D-B4CA-67607040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A80E0-582F-49AB-980F-B6604389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0B24-691F-4403-A1E9-736029A8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3683D-6354-4240-B99C-7C77B9BC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AAE30-AE24-414A-9C97-839578CB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796B2-A9CE-47B5-B3FC-985C4FD7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DACA8-A430-4C43-8EC1-816139CB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119FD-E962-437F-B0CE-A10BB1BB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000EA-28EA-436A-86A6-6282F0F89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8B13F-5DF0-41CD-B2A6-52B44CBA5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3A23D-1B00-4B57-A109-34E6CD83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B8FB5-0CCC-4F35-90F2-370D95B8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40210-4892-4635-9BDB-EAC96D71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7587-1AEA-4A72-A7A6-3BEA1B0D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E88C6-1727-4124-BE06-A4737E33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88CC8-AE76-4C9C-8025-E2BD1532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4FBD2-6F55-4927-BD27-91E7EBE8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EAD53-6134-490C-898D-D3B2BA2F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A0F71-52F2-420B-ABF5-276EE403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26FC6-C523-4B27-ACFC-844BF098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05AE2-701E-4DB9-8EE2-A24B26F1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FD1D4-7EFF-47B0-822A-0444B2FBE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A8422-03D7-4341-AE17-D853B20A0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CC3E-D80A-453A-8102-D48FCE72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A47A-55CE-429A-B640-6B1F1482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FF4F-A49E-408E-8157-9A3F8A26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D7DC-F0CD-4EC6-B7E6-09129A2B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EB32-AB76-4335-8832-C113AFAA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6521-0B16-4E9D-A03D-599FCD4720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8B67-1BD8-4F85-BF22-5DE1B3FFB5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54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3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94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6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97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9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3B7D-029D-4759-8B89-562C8A210871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E5EB-66B3-431C-A61D-E3D72532FB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9.xml"/><Relationship Id="rId7" Type="http://schemas.openxmlformats.org/officeDocument/2006/relationships/slide" Target="slide20.xml"/><Relationship Id="rId8" Type="http://schemas.openxmlformats.org/officeDocument/2006/relationships/slide" Target="slide21.xml"/><Relationship Id="rId9" Type="http://schemas.openxmlformats.org/officeDocument/2006/relationships/slide" Target="slide22.xml"/><Relationship Id="rId10" Type="http://schemas.openxmlformats.org/officeDocument/2006/relationships/slide" Target="slide23.xml"/><Relationship Id="rId11" Type="http://schemas.openxmlformats.org/officeDocument/2006/relationships/slide" Target="slide24.xml"/><Relationship Id="rId12" Type="http://schemas.openxmlformats.org/officeDocument/2006/relationships/slide" Target="slide25.xml"/><Relationship Id="rId13" Type="http://schemas.openxmlformats.org/officeDocument/2006/relationships/slide" Target="slide26.xml"/><Relationship Id="rId14" Type="http://schemas.openxmlformats.org/officeDocument/2006/relationships/slide" Target="slide27.xml"/><Relationship Id="rId15" Type="http://schemas.openxmlformats.org/officeDocument/2006/relationships/slide" Target="slide28.xml"/><Relationship Id="rId16" Type="http://schemas.openxmlformats.org/officeDocument/2006/relationships/slide" Target="slide29.xml"/><Relationship Id="rId17" Type="http://schemas.openxmlformats.org/officeDocument/2006/relationships/slide" Target="slide30.xml"/><Relationship Id="rId18" Type="http://schemas.openxmlformats.org/officeDocument/2006/relationships/slide" Target="slide31.xml"/><Relationship Id="rId19" Type="http://schemas.openxmlformats.org/officeDocument/2006/relationships/slide" Target="slide32.xml"/><Relationship Id="rId20" Type="http://schemas.openxmlformats.org/officeDocument/2006/relationships/slide" Target="slide33.xml"/><Relationship Id="rId21" Type="http://schemas.openxmlformats.org/officeDocument/2006/relationships/slide" Target="slide34.xml"/><Relationship Id="rId22" Type="http://schemas.openxmlformats.org/officeDocument/2006/relationships/slide" Target="slide35.xml"/><Relationship Id="rId23" Type="http://schemas.openxmlformats.org/officeDocument/2006/relationships/slide" Target="slide36.xml"/><Relationship Id="rId24" Type="http://schemas.openxmlformats.org/officeDocument/2006/relationships/slide" Target="slide37.xml"/><Relationship Id="rId25" Type="http://schemas.openxmlformats.org/officeDocument/2006/relationships/slide" Target="slide38.xml"/><Relationship Id="rId26" Type="http://schemas.openxmlformats.org/officeDocument/2006/relationships/slide" Target="slide39.xml"/><Relationship Id="rId27" Type="http://schemas.openxmlformats.org/officeDocument/2006/relationships/slide" Target="slide40.xml"/><Relationship Id="rId28" Type="http://schemas.openxmlformats.org/officeDocument/2006/relationships/slide" Target="slide41.xml"/><Relationship Id="rId29" Type="http://schemas.openxmlformats.org/officeDocument/2006/relationships/slide" Target="slide42.xml"/><Relationship Id="rId30" Type="http://schemas.openxmlformats.org/officeDocument/2006/relationships/slide" Target="slide43.xml"/><Relationship Id="rId31" Type="http://schemas.openxmlformats.org/officeDocument/2006/relationships/slide" Target="slide44.xml"/><Relationship Id="rId32" Type="http://schemas.openxmlformats.org/officeDocument/2006/relationships/slide" Target="slide45.xml"/><Relationship Id="rId33" Type="http://schemas.openxmlformats.org/officeDocument/2006/relationships/slide" Target="slide46.xml"/><Relationship Id="rId34" Type="http://schemas.openxmlformats.org/officeDocument/2006/relationships/slide" Target="slide47.xml"/><Relationship Id="rId35" Type="http://schemas.openxmlformats.org/officeDocument/2006/relationships/slide" Target="slide48.xml"/><Relationship Id="rId36" Type="http://schemas.openxmlformats.org/officeDocument/2006/relationships/slide" Target="slide49.xml"/><Relationship Id="rId3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2" descr="j0229389"/>
          <p:cNvPicPr/>
          <p:nvPr/>
        </p:nvPicPr>
        <p:blipFill>
          <a:blip r:embed="rId1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униципальное общеобразовательное учреждение средняя                                                                                 общеобразовательная школа с. Афанасьев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змалковского района Липецкой области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e4a8"/>
                </a:solidFill>
                <a:latin typeface="Georgia"/>
              </a:rPr>
              <a:t>В</a:t>
            </a: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о</a:t>
            </a:r>
            <a:r>
              <a:rPr b="1" i="1" lang="ru-RU" sz="4400" spc="-1" strike="noStrike">
                <a:solidFill>
                  <a:srgbClr val="3333cc"/>
                </a:solidFill>
                <a:latin typeface="Georgia"/>
              </a:rPr>
              <a:t>л</a:t>
            </a:r>
            <a:r>
              <a:rPr b="1" i="1" lang="ru-RU" sz="4400" spc="-1" strike="noStrike">
                <a:solidFill>
                  <a:srgbClr val="ffcf01"/>
                </a:solidFill>
                <a:latin typeface="Georgia"/>
              </a:rPr>
              <a:t>ш</a:t>
            </a:r>
            <a:r>
              <a:rPr b="1" i="1" lang="ru-RU" sz="4400" spc="-1" strike="noStrike">
                <a:solidFill>
                  <a:srgbClr val="33ccff"/>
                </a:solidFill>
                <a:latin typeface="Georgia"/>
              </a:rPr>
              <a:t>е</a:t>
            </a: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б</a:t>
            </a:r>
            <a:r>
              <a:rPr b="1" i="1" lang="ru-RU" sz="4400" spc="-1" strike="noStrike">
                <a:solidFill>
                  <a:srgbClr val="ff9900"/>
                </a:solidFill>
                <a:latin typeface="Georgia"/>
              </a:rPr>
              <a:t>н</a:t>
            </a:r>
            <a:r>
              <a:rPr b="1" i="1" lang="ru-RU" sz="4400" spc="-1" strike="noStrike">
                <a:solidFill>
                  <a:srgbClr val="00e4a8"/>
                </a:solidFill>
                <a:latin typeface="Georgia"/>
              </a:rPr>
              <a:t>ы</a:t>
            </a: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й</a:t>
            </a:r>
            <a:r>
              <a:rPr b="1" i="1" lang="ru-RU" sz="4400" spc="-1" strike="noStrike">
                <a:solidFill>
                  <a:srgbClr val="00e4a8"/>
                </a:solidFill>
                <a:latin typeface="Georgia"/>
              </a:rPr>
              <a:t> </a:t>
            </a:r>
            <a:r>
              <a:rPr b="1" i="1" lang="ru-RU" sz="4400" spc="-1" strike="noStrike">
                <a:solidFill>
                  <a:srgbClr val="3333cc"/>
                </a:solidFill>
                <a:latin typeface="Georgia"/>
              </a:rPr>
              <a:t>к</a:t>
            </a:r>
            <a:r>
              <a:rPr b="1" i="1" lang="ru-RU" sz="4400" spc="-1" strike="noStrike">
                <a:solidFill>
                  <a:srgbClr val="eef32d"/>
                </a:solidFill>
                <a:latin typeface="Georgia"/>
              </a:rPr>
              <a:t>в</a:t>
            </a:r>
            <a:r>
              <a:rPr b="1" i="1" lang="ru-RU" sz="4400" spc="-1" strike="noStrike">
                <a:solidFill>
                  <a:srgbClr val="33ccff"/>
                </a:solidFill>
                <a:latin typeface="Georgia"/>
              </a:rPr>
              <a:t>а</a:t>
            </a: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д</a:t>
            </a:r>
            <a:r>
              <a:rPr b="1" i="1" lang="ru-RU" sz="4400" spc="-1" strike="noStrike">
                <a:solidFill>
                  <a:srgbClr val="ff9900"/>
                </a:solidFill>
                <a:latin typeface="Georgia"/>
              </a:rPr>
              <a:t>р</a:t>
            </a:r>
            <a:r>
              <a:rPr b="1" i="1" lang="ru-RU" sz="4400" spc="-1" strike="noStrike">
                <a:solidFill>
                  <a:srgbClr val="00e4a8"/>
                </a:solidFill>
                <a:latin typeface="Georgia"/>
              </a:rPr>
              <a:t>а</a:t>
            </a:r>
            <a:r>
              <a:rPr b="1" i="1" lang="ru-RU" sz="4400" spc="-1" strike="noStrike">
                <a:solidFill>
                  <a:srgbClr val="ff3300"/>
                </a:solidFill>
                <a:latin typeface="Georgia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8e69"/>
                </a:solidFill>
                <a:latin typeface="Georgia"/>
              </a:rPr>
              <a:t>(Особенности проведения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8e69"/>
                </a:solidFill>
                <a:latin typeface="Georgia"/>
              </a:rPr>
              <a:t>Разработка урока по теме: «Человек на Земле»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читель биологии и хим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дколзина Ольга Николае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-30492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Литерату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819160" y="1828440"/>
            <a:ext cx="518148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Елькина А. М., Старцев П. Е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Биологические карты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-М.: «Дрофа», 2001г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2.  Касаткина Н. А. (составитель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риродоведение 5класс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Материалы к урокам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- Волгоград. «Учитель», 2004г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3. Парфилова Л. Д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Тесты по природоведению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-М.: «Экзамен», 2006г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4. Плешаков А. А., Сонин Н. И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риродоведение -5 класс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-М.: «Дрофа», 2002г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5. Шиндина В. М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Шоу-игра «Волшебный квадрат»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для учащихся 3 класс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-Педсовет, №12, 2002г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240" y="214200"/>
            <a:ext cx="8715240" cy="595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рок- обобщение по теме: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«ЧЕЛОВЕК НА ЗЕМЛЕ»</a:t>
            </a:r>
            <a:br>
              <a:rPr sz="4400"/>
            </a:b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природоведение – 5 класс</a:t>
            </a:r>
            <a:br>
              <a:rPr sz="40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игра «ВОЛШЕБНЫЙ КВАДРАТ»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WordArt 5"/>
          <p:cNvSpPr txBox="1"/>
          <p:nvPr/>
        </p:nvSpPr>
        <p:spPr>
          <a:xfrm>
            <a:off x="1676520" y="228600"/>
            <a:ext cx="6553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Давайте поиграем!</a:t>
            </a:r>
            <a:endParaRPr b="1" i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ЧЕЛОВЕК НА ЗЕМЛ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8213760" y="3079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8e6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e69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8e69"/>
                </a:solidFill>
                <a:latin typeface="Tahoma"/>
              </a:rPr>
              <a:t>Как появился человек на Земл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33ccff"/>
                </a:solidFill>
                <a:latin typeface="Tahoma"/>
              </a:rPr>
              <a:t>Экология – наука о природ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Географические откры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eef32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f32d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eef32d"/>
                </a:solidFill>
                <a:latin typeface="Tahoma"/>
              </a:rPr>
              <a:t>Как человек изменил Земл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Красная книг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eaeaea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 станет ли Земля пустын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Жизнь под угрозо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1752480" y="914400"/>
          <a:ext cx="5943600" cy="533412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  <a:gridCol w="990720"/>
                <a:gridCol w="990720"/>
                <a:gridCol w="99036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" action="ppaction://hlinksldjump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3" action="ppaction://hlinksldjump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4" action="ppaction://hlinksldjump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e6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5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6" action="ppaction://hlinksldjump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7" action="ppaction://hlinksldjump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3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8" action="ppaction://hlinksldjump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e6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9" action="ppaction://hlinksldjump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0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1" action="ppaction://hlinksldjump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3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2" action="ppaction://hlinksldjump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3" action="ppaction://hlinksldjump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4" action="ppaction://hlinksldjump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5" action="ppaction://hlinksldjump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6" action="ppaction://hlinksldjump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7" action="ppaction://hlinksldjump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8" action="ppaction://hlinksldjump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9" action="ppaction://hlinksldjump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0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3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1" action="ppaction://hlinksldjump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2" action="ppaction://hlinksldjump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3" action="ppaction://hlinksldjump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4" action="ppaction://hlinksldjump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e69"/>
                    </a:solidFill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5" action="ppaction://hlinksldjump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6" action="ppaction://hlinksldjump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7" action="ppaction://hlinksldjump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e6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8" action="ppaction://hlinksldjump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9" action="ppaction://hlinksldjump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3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30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31" action="ppaction://hlinksldjump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3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32" action="ppaction://hlinksldjump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33" action="ppaction://hlinksldjump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34" action="ppaction://hlinksldjump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35" action="ppaction://hlinksldjump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e6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36" action="ppaction://hlinksldjump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</a:tr>
            </a:tbl>
          </a:graphicData>
        </a:graphic>
      </p:graphicFrame>
      <p:sp>
        <p:nvSpPr>
          <p:cNvPr id="223" name="AutoShape 60">
            <a:hlinkClick r:id="" action="ppaction://hlinkshowjump?jump=lastslide"/>
          </p:cNvPr>
          <p:cNvSpPr/>
          <p:nvPr/>
        </p:nvSpPr>
        <p:spPr>
          <a:xfrm>
            <a:off x="8077320" y="594360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15375" y="10800"/>
                </a:moveTo>
                <a:lnTo>
                  <a:pt x="4869" y="17806"/>
                </a:lnTo>
                <a:lnTo>
                  <a:pt x="4869" y="3794"/>
                </a:lnTo>
                <a:close/>
              </a:path>
              <a:path fill="darken" w="23752" h="21600">
                <a:moveTo>
                  <a:pt x="17220" y="3794"/>
                </a:moveTo>
                <a:lnTo>
                  <a:pt x="17220" y="17806"/>
                </a:lnTo>
                <a:lnTo>
                  <a:pt x="18882" y="17806"/>
                </a:lnTo>
                <a:lnTo>
                  <a:pt x="18882" y="3794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 1 -  бли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Установите соответствие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счезнувший вид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дкий вид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асённый от вымирания вид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Серый ки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) Дрон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) Латимер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AutoShape 4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8" descr="j0285360"/>
          <p:cNvPicPr/>
          <p:nvPr/>
        </p:nvPicPr>
        <p:blipFill>
          <a:blip r:embed="rId1"/>
          <a:stretch/>
        </p:blipFill>
        <p:spPr>
          <a:xfrm>
            <a:off x="2220840" y="228600"/>
            <a:ext cx="4946760" cy="60958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240" y="3048120"/>
            <a:ext cx="11658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Tahoma"/>
              </a:rPr>
              <a:t>Что изучает наука экология</a:t>
            </a: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AutoShape 6">
            <a:hlinkClick r:id="rId2" action="ppaction://hlinksldjump"/>
          </p:cNvPr>
          <p:cNvSpPr/>
          <p:nvPr/>
        </p:nvSpPr>
        <p:spPr>
          <a:xfrm>
            <a:off x="3049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5" descr="Красная пустыня"/>
          <p:cNvPicPr/>
          <p:nvPr/>
        </p:nvPicPr>
        <p:blipFill>
          <a:blip r:embed="rId1"/>
          <a:stretch/>
        </p:blipFill>
        <p:spPr>
          <a:xfrm>
            <a:off x="1219320" y="6094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 3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1981080"/>
            <a:ext cx="77724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то такое опустынивание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В каком районе нашей страны оно происходит особенно быстро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AutoShape 4">
            <a:hlinkClick r:id="rId2" action="ppaction://hlinksldjump"/>
          </p:cNvPr>
          <p:cNvSpPr/>
          <p:nvPr/>
        </p:nvSpPr>
        <p:spPr>
          <a:xfrm>
            <a:off x="152280" y="56386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e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 4 -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20178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Первые люди, по мнению ученых, появились около 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200 лет назад;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2000 лет назад;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2 млн. лет назад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AutoShape 4">
            <a:hlinkClick r:id="rId1" action="ppaction://hlinksldjump"/>
          </p:cNvPr>
          <p:cNvSpPr/>
          <p:nvPr/>
        </p:nvSpPr>
        <p:spPr>
          <a:xfrm>
            <a:off x="22860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81916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акие действия людей открывают дорогу пустыне?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AutoShape 4">
            <a:hlinkClick r:id="rId1" action="ppaction://hlinksldjump"/>
          </p:cNvPr>
          <p:cNvSpPr/>
          <p:nvPr/>
        </p:nvSpPr>
        <p:spPr>
          <a:xfrm>
            <a:off x="304920" y="5791320"/>
            <a:ext cx="761760" cy="76176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 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2057400"/>
            <a:ext cx="777240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Международный союз охраны природы и природных ресурсов учредил Красную книгу в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1900 году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2006 году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1966 году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AutoShape 4">
            <a:hlinkClick r:id="rId1" action="ppaction://hlinksldjump"/>
          </p:cNvPr>
          <p:cNvSpPr/>
          <p:nvPr/>
        </p:nvSpPr>
        <p:spPr>
          <a:xfrm>
            <a:off x="380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e4a8"/>
                </a:solidFill>
                <a:latin typeface="Georgia"/>
              </a:rPr>
              <a:t>В</a:t>
            </a: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о</a:t>
            </a:r>
            <a:r>
              <a:rPr b="1" i="1" lang="ru-RU" sz="4400" spc="-1" strike="noStrike">
                <a:solidFill>
                  <a:srgbClr val="3333cc"/>
                </a:solidFill>
                <a:latin typeface="Georgia"/>
              </a:rPr>
              <a:t>л</a:t>
            </a:r>
            <a:r>
              <a:rPr b="1" i="1" lang="ru-RU" sz="4400" spc="-1" strike="noStrike">
                <a:solidFill>
                  <a:srgbClr val="ffcf01"/>
                </a:solidFill>
                <a:latin typeface="Georgia"/>
              </a:rPr>
              <a:t>ш</a:t>
            </a:r>
            <a:r>
              <a:rPr b="1" i="1" lang="ru-RU" sz="4400" spc="-1" strike="noStrike">
                <a:solidFill>
                  <a:srgbClr val="33ccff"/>
                </a:solidFill>
                <a:latin typeface="Georgia"/>
              </a:rPr>
              <a:t>е</a:t>
            </a:r>
            <a:r>
              <a:rPr b="1" i="1" lang="ru-RU" sz="4400" spc="-1" strike="noStrike">
                <a:solidFill>
                  <a:srgbClr val="333399"/>
                </a:solidFill>
                <a:latin typeface="Georgia"/>
              </a:rPr>
              <a:t>б</a:t>
            </a:r>
            <a:r>
              <a:rPr b="1" i="1" lang="ru-RU" sz="4400" spc="-1" strike="noStrike">
                <a:solidFill>
                  <a:srgbClr val="ff9900"/>
                </a:solidFill>
                <a:latin typeface="Georgia"/>
              </a:rPr>
              <a:t>н</a:t>
            </a:r>
            <a:r>
              <a:rPr b="1" i="1" lang="ru-RU" sz="4400" spc="-1" strike="noStrike">
                <a:solidFill>
                  <a:srgbClr val="00e4a8"/>
                </a:solidFill>
                <a:latin typeface="Georgia"/>
              </a:rPr>
              <a:t>ы</a:t>
            </a: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й</a:t>
            </a:r>
            <a:r>
              <a:rPr b="1" i="1" lang="ru-RU" sz="4400" spc="-1" strike="noStrike">
                <a:solidFill>
                  <a:srgbClr val="00e4a8"/>
                </a:solidFill>
                <a:latin typeface="Georgia"/>
              </a:rPr>
              <a:t> </a:t>
            </a:r>
            <a:r>
              <a:rPr b="1" i="1" lang="ru-RU" sz="4400" spc="-1" strike="noStrike">
                <a:solidFill>
                  <a:srgbClr val="3333cc"/>
                </a:solidFill>
                <a:latin typeface="Georgia"/>
              </a:rPr>
              <a:t>к</a:t>
            </a:r>
            <a:r>
              <a:rPr b="1" i="1" lang="ru-RU" sz="4400" spc="-1" strike="noStrike">
                <a:solidFill>
                  <a:srgbClr val="eef32d"/>
                </a:solidFill>
                <a:latin typeface="Georgia"/>
              </a:rPr>
              <a:t>в</a:t>
            </a:r>
            <a:r>
              <a:rPr b="1" i="1" lang="ru-RU" sz="4400" spc="-1" strike="noStrike">
                <a:solidFill>
                  <a:srgbClr val="33ccff"/>
                </a:solidFill>
                <a:latin typeface="Georgia"/>
              </a:rPr>
              <a:t>а</a:t>
            </a:r>
            <a:r>
              <a:rPr b="1" i="1" lang="ru-RU" sz="4400" spc="-1" strike="noStrike">
                <a:solidFill>
                  <a:srgbClr val="333399"/>
                </a:solidFill>
                <a:latin typeface="Georgia"/>
              </a:rPr>
              <a:t>д</a:t>
            </a:r>
            <a:r>
              <a:rPr b="1" i="1" lang="ru-RU" sz="4400" spc="-1" strike="noStrike">
                <a:solidFill>
                  <a:srgbClr val="ff9900"/>
                </a:solidFill>
                <a:latin typeface="Georgia"/>
              </a:rPr>
              <a:t>р</a:t>
            </a:r>
            <a:r>
              <a:rPr b="1" i="1" lang="ru-RU" sz="4400" spc="-1" strike="noStrike">
                <a:solidFill>
                  <a:srgbClr val="00e4a8"/>
                </a:solidFill>
                <a:latin typeface="Georgia"/>
              </a:rPr>
              <a:t>а</a:t>
            </a:r>
            <a:r>
              <a:rPr b="1" i="1" lang="ru-RU" sz="4400" spc="-1" strike="noStrike">
                <a:solidFill>
                  <a:srgbClr val="ff3300"/>
                </a:solidFill>
                <a:latin typeface="Georgia"/>
              </a:rPr>
              <a:t>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1" name="Picture 9" descr=""/>
          <p:cNvPicPr/>
          <p:nvPr/>
        </p:nvPicPr>
        <p:blipFill>
          <a:blip r:embed="rId1"/>
          <a:srcRect l="5860" t="0" r="0" b="0"/>
          <a:stretch/>
        </p:blipFill>
        <p:spPr>
          <a:xfrm>
            <a:off x="3886200" y="2057400"/>
            <a:ext cx="2449440" cy="19810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2017440"/>
            <a:ext cx="37339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Шоу – игра, которую удобно применять на уроках обобщения учебных тем, объединяющих семь глав, например при изучении курса «Природоведение 5 класс» (авторы Плешаков А. А., Сонин Н. И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проведении внеклассных занятий, классных час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Picture 13" descr=""/>
          <p:cNvPicPr/>
          <p:nvPr/>
        </p:nvPicPr>
        <p:blipFill>
          <a:blip r:embed="rId2"/>
          <a:srcRect l="13925" t="0" r="0" b="0"/>
          <a:stretch/>
        </p:blipFill>
        <p:spPr>
          <a:xfrm>
            <a:off x="4114800" y="4495680"/>
            <a:ext cx="2133720" cy="19814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"/>
          <p:cNvPicPr/>
          <p:nvPr/>
        </p:nvPicPr>
        <p:blipFill>
          <a:blip r:embed="rId3"/>
          <a:srcRect l="0" t="0" r="0" b="3844"/>
          <a:stretch/>
        </p:blipFill>
        <p:spPr>
          <a:xfrm>
            <a:off x="6705720" y="4572000"/>
            <a:ext cx="2286000" cy="1905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5" descr=""/>
          <p:cNvPicPr/>
          <p:nvPr/>
        </p:nvPicPr>
        <p:blipFill>
          <a:blip r:embed="rId4"/>
          <a:srcRect l="0" t="3848" r="0" b="0"/>
          <a:stretch/>
        </p:blipFill>
        <p:spPr>
          <a:xfrm>
            <a:off x="6629400" y="2057400"/>
            <a:ext cx="21844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3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 7 </a:t>
            </a:r>
            <a:br>
              <a:rPr sz="44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ЧАСТЛИВЫЙ СЛУЧАЙ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1981080"/>
            <a:ext cx="77724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Почему радиоактивные отходы считаются особенно опасными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AutoShape 4">
            <a:hlinkClick r:id="rId1" action="ppaction://hlinksldjump"/>
          </p:cNvPr>
          <p:cNvSpPr/>
          <p:nvPr/>
        </p:nvSpPr>
        <p:spPr>
          <a:xfrm>
            <a:off x="762120" y="51055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12345"/>
                </a:moveTo>
                <a:lnTo>
                  <a:pt x="17806" y="5338"/>
                </a:lnTo>
                <a:lnTo>
                  <a:pt x="17806" y="19351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7" name="Picture 8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304812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e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1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77724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акое значение для древних людей имела способность изготавливать орудия труда и охоты, отличавшая их от животных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AutoShape 4">
            <a:hlinkClick r:id="rId1" action="ppaction://hlinksldjump"/>
          </p:cNvPr>
          <p:cNvSpPr/>
          <p:nvPr/>
        </p:nvSpPr>
        <p:spPr>
          <a:xfrm>
            <a:off x="457200" y="52578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Вопрос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44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ЧАСТЛИВЫЙ СЛУЧАЙ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1904760"/>
            <a:ext cx="777240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Америка была открыта в 1492 году Джеймсом Куком, так ли это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AutoShape 5">
            <a:hlinkClick r:id="rId1" action="ppaction://hlinksldjump"/>
          </p:cNvPr>
          <p:cNvSpPr/>
          <p:nvPr/>
        </p:nvSpPr>
        <p:spPr>
          <a:xfrm>
            <a:off x="380880" y="51814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4" name="Picture 6" descr="j0335112"/>
          <p:cNvPicPr/>
          <p:nvPr/>
        </p:nvPicPr>
        <p:blipFill>
          <a:blip r:embed="rId2"/>
          <a:stretch/>
        </p:blipFill>
        <p:spPr>
          <a:xfrm>
            <a:off x="5257800" y="3200400"/>
            <a:ext cx="38862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 1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ак остановить или замедлить опустынивание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AutoShape 4">
            <a:hlinkClick r:id="rId1" action="ppaction://hlinksldjump"/>
          </p:cNvPr>
          <p:cNvSpPr/>
          <p:nvPr/>
        </p:nvSpPr>
        <p:spPr>
          <a:xfrm>
            <a:off x="2286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3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ree"/>
          <p:cNvSpPr/>
          <p:nvPr/>
        </p:nvSpPr>
        <p:spPr>
          <a:xfrm>
            <a:off x="1295280" y="0"/>
            <a:ext cx="6705720" cy="65530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1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На заре земледелия и скотоводства площадь лесов на Земле составляла 62 млн. км</a:t>
            </a:r>
            <a:r>
              <a:rPr b="0" lang="ru-RU" sz="4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. Сейчас лесами покрыто 36 млн. км</a:t>
            </a:r>
            <a:r>
              <a:rPr b="0" lang="ru-RU" sz="4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. На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акой площади уничтожены леса за это время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AutoShape 5">
            <a:hlinkClick r:id="rId1" action="ppaction://hlinksldjump"/>
          </p:cNvPr>
          <p:cNvSpPr/>
          <p:nvPr/>
        </p:nvSpPr>
        <p:spPr>
          <a:xfrm>
            <a:off x="45720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1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42148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 расчетам ученых, пастбища Черных земель в середине 80-х годов прошлого века могли прокормить не более 750 тыс. овец. Но на деле здесь содержали более 1 млн 500 тыс. овец. Дайте приблизительную оценку: во сколько раз были перегружены пастбищ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AutoShape 4">
            <a:hlinkClick r:id="rId1" action="ppaction://hlinksldjump"/>
          </p:cNvPr>
          <p:cNvSpPr/>
          <p:nvPr/>
        </p:nvSpPr>
        <p:spPr>
          <a:xfrm>
            <a:off x="304920" y="59436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12152"/>
                </a:moveTo>
                <a:lnTo>
                  <a:pt x="17806" y="5145"/>
                </a:lnTo>
                <a:lnTo>
                  <a:pt x="17806" y="19158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Вопрос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3048120"/>
            <a:ext cx="777240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ак была открыта Австралия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AutoShape 4">
            <a:hlinkClick r:id="rId1" action="ppaction://hlinksldjump"/>
          </p:cNvPr>
          <p:cNvSpPr/>
          <p:nvPr/>
        </p:nvSpPr>
        <p:spPr>
          <a:xfrm>
            <a:off x="685800" y="4876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14 -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бли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1904760"/>
            <a:ext cx="777240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Что такое питомники, зачем они нужны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Галичья гора – это питомник или заповедник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Почему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Что такое биологическое разнообразие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AutoShape 4">
            <a:hlinkClick r:id="rId1" action="ppaction://hlinksldjump"/>
          </p:cNvPr>
          <p:cNvSpPr/>
          <p:nvPr/>
        </p:nvSpPr>
        <p:spPr>
          <a:xfrm>
            <a:off x="304920" y="533412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12152"/>
                </a:moveTo>
                <a:lnTo>
                  <a:pt x="17806" y="5145"/>
                </a:lnTo>
                <a:lnTo>
                  <a:pt x="17806" y="19158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1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57400"/>
            <a:ext cx="777240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логия изучает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ещества и их превращен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роду земной поверхност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вязи между организмами и окружающей средой, между человеком и природо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бесные тел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AutoShape 5">
            <a:hlinkClick r:id="rId1" action="ppaction://hlinksldjump"/>
          </p:cNvPr>
          <p:cNvSpPr/>
          <p:nvPr/>
        </p:nvSpPr>
        <p:spPr>
          <a:xfrm>
            <a:off x="380880" y="58672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1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77724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Фаддей Фаддеевич Беллинсгаузен и Михаил Петрович Лазарев в 1920 году открыли…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AutoShape 5">
            <a:hlinkClick r:id="rId1" action="ppaction://hlinksldjump"/>
          </p:cNvPr>
          <p:cNvSpPr/>
          <p:nvPr/>
        </p:nvSpPr>
        <p:spPr>
          <a:xfrm>
            <a:off x="457200" y="5181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-55152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304920"/>
            <a:ext cx="77724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ЦЕЛИ  и   ЗАДАЧИ (одни из возможных)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Систематизировать   знания  по   теме:  «…». Развивать умение быстро принимать правильное  решение,    сопереживать,   эмоционально    откликаться   на происходящее, использовать знания, работать в коллективе и индивидуально, решать познавательные задачи, повышать уровень экологической культуры. Продолжить формирование бережного отношения к природ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МЕТОДЫ ОБУЧЕНИЯ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Репродуктивный, частично поисковый, игра «волшебный квадрат»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ПРИЕМЫ ДЕЯТЕЛЬНОСТИ УЧИТЕЛЯ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Организация игры, разъяснение ее правил, подведение итогов по результатам игр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ЛИЧНОСТНАЯ         ЗНАЧИМОСТЬ ИЗУЧАЕМОГО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ДЛЯ ШКОЛЬНИК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    Показать    хорошие    знания    и    получить хорошую оценку своей учебной деятель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1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AutoShape 4">
            <a:hlinkClick r:id="rId1" action="ppaction://hlinksldjump"/>
          </p:cNvPr>
          <p:cNvSpPr/>
          <p:nvPr/>
        </p:nvSpPr>
        <p:spPr>
          <a:xfrm>
            <a:off x="228600" y="57913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066680" y="5845320"/>
            <a:ext cx="807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4300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чинами исчезновения живых организмов являются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ямое истребление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ничтожение мест обитан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грязнение окружающей сред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е перечисленно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1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1981080"/>
            <a:ext cx="77724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дберите пару: экологическая проблема – причин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ислотные дожд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величение в атмосфере углекислого газ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грязнение атмосферы выбросами промышленных предприят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величение использования аэрозолей и освежителей воздух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AutoShape 4">
            <a:hlinkClick r:id="rId1" action="ppaction://hlinksldjump"/>
          </p:cNvPr>
          <p:cNvSpPr/>
          <p:nvPr/>
        </p:nvSpPr>
        <p:spPr>
          <a:xfrm>
            <a:off x="380880" y="58672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1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2057400"/>
            <a:ext cx="777240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Как называется книга в которую занесены названия редких и исчезающих видов живых организмов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Зелена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Черна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Красна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Природоохранна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AutoShape 4">
            <a:hlinkClick r:id="rId1" action="ppaction://hlinksldjump"/>
          </p:cNvPr>
          <p:cNvSpPr/>
          <p:nvPr/>
        </p:nvSpPr>
        <p:spPr>
          <a:xfrm>
            <a:off x="380880" y="60199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3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2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Что такое ядохимикаты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Радиоактивные веществ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Вещества. Созданные для борьбы с вредителям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Удобрени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Лекарственные препарат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AutoShape 4">
            <a:hlinkClick r:id="rId1" action="ppaction://hlinksldjump"/>
          </p:cNvPr>
          <p:cNvSpPr/>
          <p:nvPr/>
        </p:nvSpPr>
        <p:spPr>
          <a:xfrm>
            <a:off x="609480" y="47242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21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-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AutoShape 4">
            <a:hlinkClick r:id="rId1" action="ppaction://hlinksldjump"/>
          </p:cNvPr>
          <p:cNvSpPr/>
          <p:nvPr/>
        </p:nvSpPr>
        <p:spPr>
          <a:xfrm>
            <a:off x="228600" y="60958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10806"/>
                </a:moveTo>
                <a:lnTo>
                  <a:pt x="17806" y="3800"/>
                </a:lnTo>
                <a:lnTo>
                  <a:pt x="17806" y="17813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2" name="Picture 5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8229600" cy="315936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6"/>
          <p:cNvSpPr/>
          <p:nvPr/>
        </p:nvSpPr>
        <p:spPr>
          <a:xfrm>
            <a:off x="914400" y="56386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зовите этих животных, что их объединяет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2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447560" y="2057400"/>
            <a:ext cx="7507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Что такое Красная книга</a:t>
            </a: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AutoShape 4"/>
          <p:cNvSpPr/>
          <p:nvPr/>
        </p:nvSpPr>
        <p:spPr>
          <a:xfrm>
            <a:off x="22860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7" name="Picture 5" descr="j0217698"/>
          <p:cNvPicPr/>
          <p:nvPr/>
        </p:nvPicPr>
        <p:blipFill>
          <a:blip r:embed="rId1"/>
          <a:stretch/>
        </p:blipFill>
        <p:spPr>
          <a:xfrm>
            <a:off x="4800600" y="3429000"/>
            <a:ext cx="3576600" cy="29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2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90360" y="151920"/>
            <a:ext cx="8001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ЕРЕХОД ХОД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нформация для размышл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АБЫ. Кожа бородавчатая. Они – верные друзья. Ночью выходят жабы на охоту. И сколько вредных насекомых уничтожат! Одна самка камышовой жабы откладывает до 4 тысяч икринок. Вот и представьте какую пользу приносит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ЕРЕГИТЕ ЖАБ 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AutoShape 4"/>
          <p:cNvSpPr/>
          <p:nvPr/>
        </p:nvSpPr>
        <p:spPr>
          <a:xfrm>
            <a:off x="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1" name="Picture 5" descr="06040202"/>
          <p:cNvPicPr/>
          <p:nvPr/>
        </p:nvPicPr>
        <p:blipFill>
          <a:blip r:embed="rId1"/>
          <a:stretch/>
        </p:blipFill>
        <p:spPr>
          <a:xfrm>
            <a:off x="3124080" y="2057400"/>
            <a:ext cx="350532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e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24 - бли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2361960"/>
            <a:ext cx="777240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е живущие сейчас на Земле люди относятся к одному виду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еловек умел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еловек прямоходящ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еловек разумный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встралопите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AutoShape 4"/>
          <p:cNvSpPr/>
          <p:nvPr/>
        </p:nvSpPr>
        <p:spPr>
          <a:xfrm>
            <a:off x="380880" y="594360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25 - бли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22856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 способствует опустынивани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пашка степ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резмерный выпас ове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онкий плодородный слой поч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се перечисленно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вымирании динозавров виноват человек. Так ли это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ушение болот оказывает положительное влияние на окружающую природу. Так ли это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22860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26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ЧАСТЛИВЫЙ СЛУЧА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7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берите пару: экологическая проблема – причин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зоновая дыр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величение в атмосфере углекислого га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грязнение атмосферы выбросами промышленных предприят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величение использования аэрозолей и освежителей воздух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AutoShape 5"/>
          <p:cNvSpPr/>
          <p:nvPr/>
        </p:nvSpPr>
        <p:spPr>
          <a:xfrm>
            <a:off x="3049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борудов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1828440"/>
            <a:ext cx="777240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вадрат с 36 секторами для проведения игр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шочек с номерами (номера в футлярах из-под киндер-сюрпризов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едомость для подведения итог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Жетоны-балл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орудование, связанное с темой обобщения (урока, внеклассного мероприятия, классного часа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e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2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77724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Первые домашние животные появились у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еловека умелог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еловека прямоходящег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андертальц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романьонц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304920" y="59436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2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819288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дберите пару: открытие — путешественни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вым проложил морской путь в Инди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В. Беринг       б) Д. Ливингстон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) Васко да Га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AutoShape 4"/>
          <p:cNvSpPr/>
          <p:nvPr/>
        </p:nvSpPr>
        <p:spPr>
          <a:xfrm>
            <a:off x="228600" y="59436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3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2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ластиковая посуда и полиэтиленовые пакеты не разлагаются в природе, так как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х очень много производя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ни сделаны из очень прочного материа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 впитывают вод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т бактерий, разлагающих их в природ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AutoShape 4"/>
          <p:cNvSpPr/>
          <p:nvPr/>
        </p:nvSpPr>
        <p:spPr>
          <a:xfrm>
            <a:off x="152280" y="60958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3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1904760"/>
            <a:ext cx="777240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 каким последствиям приведет разрушение озонового слоя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высится температура на Земл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гибнет все живо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рушатся памятники и зд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нимется уровень мор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AutoShape 4"/>
          <p:cNvSpPr/>
          <p:nvPr/>
        </p:nvSpPr>
        <p:spPr>
          <a:xfrm>
            <a:off x="228600" y="59436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3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3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22860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бы не исчезнуть с лица Земли подобно динозаврам люди должны(продолжите предложения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хранить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ороться с уничтожением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тановить наступление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щитить планету от всех видов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32 - бли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дберите пару: открытие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утешественни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 Первым достиг Северного полю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 Первым достиг Южного полю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 Совершил первое кругосветное путешеств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Р. Пири       б) Ф. Магеллан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) Р. Амундсе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AutoShape 4"/>
          <p:cNvSpPr/>
          <p:nvPr/>
        </p:nvSpPr>
        <p:spPr>
          <a:xfrm>
            <a:off x="22860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33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- S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1981080"/>
            <a:ext cx="77724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Какое растение занесено в список редких и исчезающих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Эвкалип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Секвой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Берез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Кед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2860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3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Установите соответстви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амятники природы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рогий режим охраны, вход человеку воспреще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ременно охраняемые территории для сохранения определенных вид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большие территории или объекты природы, имеющие особую научную или культурную ценность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AutoShape 4"/>
          <p:cNvSpPr/>
          <p:nvPr/>
        </p:nvSpPr>
        <p:spPr>
          <a:xfrm>
            <a:off x="30492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e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3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82600" y="2514600"/>
            <a:ext cx="77724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Длительный процесс исторического развития живых организмов в том числе и человека - это: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эволюция, палеонтология, экология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AutoShape 4"/>
          <p:cNvSpPr/>
          <p:nvPr/>
        </p:nvSpPr>
        <p:spPr>
          <a:xfrm>
            <a:off x="380880" y="60199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36 - бли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77724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ыберите правильное утверждени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«Гринпис» – это международная экологическая организац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Географические открытия никак не повлияли на природу материк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Что такое парниковый эффект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акие ещё экологические проблемы вам известны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AutoShape 5"/>
          <p:cNvSpPr/>
          <p:nvPr/>
        </p:nvSpPr>
        <p:spPr>
          <a:xfrm>
            <a:off x="22860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0912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        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авила игр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астники игры по очереди вытягивают из мешочка номера и отвечают на вопросы. Получают жетон за каждый правильный ответ. Если участник не дал правильный ответ, то ответить и заработать жетон может каждый желающ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Среди секторов игрового квадрата есть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 * счастливый случай (за правильный ответ игрок получает сразу 3 жетона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        Б. Т. бермудский треугольник (блиц из 3 вопросов, игрок получает 1 жетон за каждый правильный ответ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OS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грок может воспользоваться помощью болельщиков,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черный сектор - переход хода (игрок лишается 1 жетона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 окончании игры, участники, имеющие жетоны заполняют ведомость для подведения итогов и получают оценк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1752480" y="3962520"/>
            <a:ext cx="457200" cy="30456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4" descr="Зернистость фильма_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4419360" cy="594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 могли леса цвест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сады, и рек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се живое берег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ы на этом свете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ы природу полюб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ждую травинку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 птицами давай друж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ереги былинку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усор, друг, не оставля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лесу на поляне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ки ты не засоря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ой объявим склянка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 неси ежа домой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абочку не трогай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Школьник! Помни ты всегда-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х не так уж много!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6248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Georgia"/>
              </a:rPr>
              <a:t>С</a:t>
            </a:r>
            <a:r>
              <a:rPr b="1" i="1" lang="ru-RU" sz="4000" spc="-1" strike="noStrike">
                <a:solidFill>
                  <a:srgbClr val="33ccff"/>
                </a:solidFill>
                <a:latin typeface="Georgia"/>
              </a:rPr>
              <a:t>П</a:t>
            </a:r>
            <a:r>
              <a:rPr b="1" i="1" lang="ru-RU" sz="4000" spc="-1" strike="noStrike">
                <a:solidFill>
                  <a:srgbClr val="008e69"/>
                </a:solidFill>
                <a:latin typeface="Georgia"/>
              </a:rPr>
              <a:t>А</a:t>
            </a:r>
            <a:r>
              <a:rPr b="1" i="1" lang="ru-RU" sz="4000" spc="-1" strike="noStrike">
                <a:solidFill>
                  <a:srgbClr val="333399"/>
                </a:solidFill>
                <a:latin typeface="Georgia"/>
              </a:rPr>
              <a:t>С</a:t>
            </a:r>
            <a:r>
              <a:rPr b="1" i="1" lang="ru-RU" sz="4000" spc="-1" strike="noStrike">
                <a:solidFill>
                  <a:srgbClr val="ff9900"/>
                </a:solidFill>
                <a:latin typeface="Georgia"/>
              </a:rPr>
              <a:t>И</a:t>
            </a:r>
            <a:r>
              <a:rPr b="1" i="1" lang="ru-RU" sz="4000" spc="-1" strike="noStrike">
                <a:solidFill>
                  <a:srgbClr val="ff3300"/>
                </a:solidFill>
                <a:latin typeface="Georgia"/>
              </a:rPr>
              <a:t>Б</a:t>
            </a:r>
            <a:r>
              <a:rPr b="1" i="1" lang="ru-RU" sz="4000" spc="-1" strike="noStrike">
                <a:solidFill>
                  <a:srgbClr val="33ccff"/>
                </a:solidFill>
                <a:latin typeface="Georgia"/>
              </a:rPr>
              <a:t>О</a:t>
            </a:r>
            <a:r>
              <a:rPr b="1" i="1" lang="ru-RU" sz="4000" spc="-1" strike="noStrike">
                <a:solidFill>
                  <a:srgbClr val="ff3300"/>
                </a:solidFill>
                <a:latin typeface="Georgia"/>
              </a:rPr>
              <a:t> З</a:t>
            </a:r>
            <a:r>
              <a:rPr b="1" i="1" lang="ru-RU" sz="4000" spc="-1" strike="noStrike">
                <a:solidFill>
                  <a:srgbClr val="008e69"/>
                </a:solidFill>
                <a:latin typeface="Georgia"/>
              </a:rPr>
              <a:t>А</a:t>
            </a:r>
            <a:r>
              <a:rPr b="1" i="1" lang="ru-RU" sz="40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4000" spc="-1" strike="noStrike">
                <a:solidFill>
                  <a:srgbClr val="333399"/>
                </a:solidFill>
                <a:latin typeface="Georgia"/>
              </a:rPr>
              <a:t>У</a:t>
            </a:r>
            <a:r>
              <a:rPr b="1" i="1" lang="ru-RU" sz="4000" spc="-1" strike="noStrike">
                <a:solidFill>
                  <a:srgbClr val="ff9900"/>
                </a:solidFill>
                <a:latin typeface="Georgia"/>
              </a:rPr>
              <a:t>Р</a:t>
            </a:r>
            <a:r>
              <a:rPr b="1" i="1" lang="ru-RU" sz="4000" spc="-1" strike="noStrike">
                <a:solidFill>
                  <a:srgbClr val="ff3300"/>
                </a:solidFill>
                <a:latin typeface="Georgia"/>
              </a:rPr>
              <a:t>О</a:t>
            </a:r>
            <a:r>
              <a:rPr b="1" i="1" lang="ru-RU" sz="4000" spc="-1" strike="noStrike">
                <a:solidFill>
                  <a:srgbClr val="33ccff"/>
                </a:solidFill>
                <a:latin typeface="Georgia"/>
              </a:rPr>
              <a:t>К</a:t>
            </a:r>
            <a:r>
              <a:rPr b="1" i="1" lang="ru-RU" sz="4000" spc="-1" strike="noStrike">
                <a:solidFill>
                  <a:srgbClr val="ff3300"/>
                </a:solidFill>
                <a:latin typeface="Georgia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4" name="Beethoven's Symphony No. 9 (Scherzo).wma" descr=""/>
          <p:cNvPicPr/>
          <p:nvPr/>
        </p:nvPicPr>
        <p:blipFill>
          <a:blip r:embed="rId2"/>
          <a:stretch/>
        </p:blipFill>
        <p:spPr>
          <a:xfrm>
            <a:off x="45720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75742" fill="hold"/>
                                        <p:tgtEl>
                                          <p:spTgt spid="3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99308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вадрат с 36 секторами разных цветов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752480" y="914400"/>
          <a:ext cx="5943600" cy="533412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  <a:gridCol w="990720"/>
                <a:gridCol w="990720"/>
                <a:gridCol w="99036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e6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3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e6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3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3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e69"/>
                    </a:solidFill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e6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3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3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e6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1676520" y="838080"/>
          <a:ext cx="6095880" cy="548640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5920"/>
                <a:gridCol w="1016280"/>
                <a:gridCol w="1015920"/>
                <a:gridCol w="1015920"/>
              </a:tblGrid>
              <a:tr h="95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переход х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AutoShape 59"/>
          <p:cNvSpPr/>
          <p:nvPr/>
        </p:nvSpPr>
        <p:spPr>
          <a:xfrm>
            <a:off x="2057400" y="1219320"/>
            <a:ext cx="533520" cy="38088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AutoShape 60"/>
          <p:cNvSpPr/>
          <p:nvPr/>
        </p:nvSpPr>
        <p:spPr>
          <a:xfrm>
            <a:off x="3124080" y="2971800"/>
            <a:ext cx="533520" cy="38088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AutoShape 61"/>
          <p:cNvSpPr/>
          <p:nvPr/>
        </p:nvSpPr>
        <p:spPr>
          <a:xfrm>
            <a:off x="7162920" y="3962520"/>
            <a:ext cx="533160" cy="38088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AutoShape 62"/>
          <p:cNvSpPr/>
          <p:nvPr/>
        </p:nvSpPr>
        <p:spPr>
          <a:xfrm>
            <a:off x="2133720" y="4876920"/>
            <a:ext cx="533160" cy="38088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AutoShape 63"/>
          <p:cNvSpPr/>
          <p:nvPr/>
        </p:nvSpPr>
        <p:spPr>
          <a:xfrm>
            <a:off x="3124080" y="5791320"/>
            <a:ext cx="533520" cy="38088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76160" y="214200"/>
            <a:ext cx="72673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Требования к количеству игроков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исло игроков кратно трем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тимальное число играющих – 9 или 18, для того, чтобы обеспечить повторную игру участников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ежду сериями игр можно включать музыкальные паузы, загадки, ребусы и т. д. (особенно при проведении внеклассных занятий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едомость учета балл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33520" y="2666880"/>
          <a:ext cx="8229600" cy="2808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амилия, имя учащего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ичество 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ина</cp:lastModifiedBy>
  <dcterms:modified xsi:type="dcterms:W3CDTF">2009-03-15T04:50:01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